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699-5763-4202-B25A-84989299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160-2262-454A-9E6B-B2097F32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493-9E60-4BC4-84C1-536C7BFB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83E-1DC9-4639-92F7-6E8B76F8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768-D3AF-4D69-83CE-B144EB30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B32-7799-4182-8E16-B2F41BF5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103-1536-4555-8C12-EB53ECA4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4F5-BC49-4C3E-8827-A9A2F111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A2B-2C63-4BED-A054-D19B90FA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29A-A585-48E1-9F68-F8CA2DFF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476-B644-4293-AC66-CC941830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C7A-89ED-44A4-BE72-078105FC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E397-94E1-480E-A317-903E69C97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XXX XXX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es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---</cp:lastModifiedBy>
  <dcterms:modified xsi:type="dcterms:W3CDTF">2008-12-17T10:52:14Z</dcterms:modified>
  <cp:revision>6</cp:revision>
  <dc:subject/>
  <dc:title>Diapositiva 1</dc:title>
</cp:coreProperties>
</file>